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34CE-2D37-40BC-822C-DD13A926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23B-AA35-4639-B61A-CB662A2F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8DF-9C87-45F3-A379-5B954D6D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5FC-E80B-4FF0-AED6-B8A2227F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14E7-E0EA-4215-A8FF-805C367D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5D14-BF5E-41AF-878B-B4EAE0F0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3D43-70A3-4C31-94D6-D892EEFC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8259-543E-4966-ACF3-4BE1B1F1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3FEF-4BBE-457A-8DF0-687537B3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1442-CF16-4383-A921-052A28B8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B445-05F4-48D5-8D56-2B990616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5BC-A10E-4228-90CB-7E279DC8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8BCA-0DFB-4D37-9EFD-C4C0413C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9C24-3119-4549-9790-29127A6E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1863-A68A-4EAB-982B-BD353DCB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6742-7783-44ED-BFB1-FD1F529C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CA5E-BC53-4F54-855D-FBE15805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523E-1957-4813-AE91-1E0D601A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D7E4-281C-4F14-896A-FB1EC983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CF0-112D-4EE1-A492-EF98AC5A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0772-50DA-4333-A4B8-DCE26FC9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3B2B-A237-49FF-9F19-535D2E07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AE9-7405-433E-A99E-0A526D70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868-DBE6-41DD-8E7C-BBE4AEF4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5D11-9792-47E1-8964-7435F57157D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8F51-A3D8-49C0-9DFD-5C666763F66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енсорное развит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исследование предметов, их свойств и качеств (форма, величина, пропорции, цвет, положение в пространстве и т.п.)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Круг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Овал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Треугольник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Квадрат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Прямоугольник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бъёмные форм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шар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куб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кирпичик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призма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ЦВЕ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Красны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Жёлты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ини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Зелёны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Белы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Чёрны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величин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ри контрастных величины предмет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Большо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оменьш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аленьки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2:16:15Z</dcterms:created>
  <dc:creator>raven</dc:creator>
  <dc:description/>
  <dc:language>en-US</dc:language>
  <cp:lastModifiedBy>raven</cp:lastModifiedBy>
  <dcterms:modified xsi:type="dcterms:W3CDTF">2009-09-24T12:58:52Z</dcterms:modified>
  <cp:revision>3</cp:revision>
  <dc:subject/>
  <dc:title>Сенсорное развитие</dc:title>
</cp:coreProperties>
</file>